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A2CB-B993-4DA2-806C-1DCA186EA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6F3-60DE-4950-8DE0-432D5D72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EEC-07F8-482F-9E61-45D95DCA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CC7-70C5-48CF-A30B-C0E4D714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5BE8-DEC9-420B-B940-C08D4979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2B67-BB37-4349-99EB-1D63D013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FBA6-4B06-4C6B-AE23-E88DF0FA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B13D-927F-4E69-9C98-DDBEF426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AF6C-7CCB-4015-97BA-43D2AC74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5E0D-5F69-4BBE-98B0-A1F2154C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13C5-C802-4B95-9000-353850D2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9608-23AC-4163-829C-7BD797D8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659F-9EEE-423A-A359-9F2B24F1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6048-7C00-4F8D-A47B-14F33CC3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1FFA-7EC2-459B-8282-C5D1656E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1F78-2FB0-4EC5-ABFB-A9D95550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E641-E979-4980-96FB-AB58AA4A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F1978-F44E-433A-B8BC-C9CA543B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0AEB3-F356-4BA4-8551-FC85D221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4937B-4FEE-45E0-999A-1183D5E3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3010C-E4B9-4DE3-89AD-D2D038FD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0EF9C-1FE6-4156-9A74-5899BD39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0CD-BD97-4988-9351-B06A414E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A4DDB-E6F2-4BB0-B9A4-A3DB6F39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29875-77B2-455B-80AD-16C9F714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B28C0-EE02-40E9-9859-ED27C08B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1A644-EB11-4610-8D3B-5BF53886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4A4D4-6806-4E12-824A-29D4BE52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3ECEC-C98F-403A-AF3A-5F5C5A5B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386ED-1DB9-499F-973A-DE213B29B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6C2A0-3203-4AD0-BAEF-BF46B5F4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02A0C-1133-4A9D-9971-7BD12745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751D1-460C-41C8-BBF6-C138C1BC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2542-A282-426B-AD9F-39596123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07C7B-7081-4B76-B19C-5AB0A760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46302-2C23-4059-8BFB-8E113589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6C4AC-FB7C-4759-B108-6A0B0B86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E2FDF-3BC1-4B47-A74D-70472ED4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637F5-2514-4D3F-AA7F-FE5CB766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061EA-EDB7-4680-A686-F715D1B5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C68FA-AE65-43D2-A5E9-84EF74C0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3F9A9-4A6B-45C9-9BAB-D07CE9CF7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64D9F-3663-4A01-B6B8-25A78B906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28992-2EC8-48F9-9CE1-AA1A82A06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7926-F9A7-4383-8C2B-00A483E9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A26F7-EA64-4BAB-8D48-6DA0BAFE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C85FF-AB2E-481E-B53B-87E590F3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B70FA-4139-41AC-B3CB-1C767C2D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C5C64-276C-4B8D-843B-F407B2AC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21449-29D6-47BD-AFB1-37FED25E2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3D7D1-FE88-409C-A4AA-95809061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01BD3-EDA8-4856-A224-A0084F08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94025-789E-42BF-904A-6FB770F7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94351-594C-44F1-9A58-2E97CA28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44BAA-A96D-4507-BD76-F00B6ED81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E76-98FD-43EC-8A6C-6DFB60FC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3A04C-095F-4A5A-8748-CD692740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623D0-B9B7-4850-A5A7-303EFC617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6968D-2EE7-4635-BFD8-E3D84813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20C80-CBD4-4790-B2F1-FD15BE09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01808-7CF8-40D5-9192-BB9D9200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13D25-1044-4585-AB96-85E612A5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0F108-0FC5-4A84-B301-A7B7452B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602F2-D046-443B-8B85-DD8F8568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ABD2D-EF07-4D40-881C-CCBB2CC2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192A1-D116-456E-98F7-3D9D327B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186F-BB94-4BAF-95FF-50B4E4F2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69356-A4F5-4555-A432-EFE89DBD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E7799-55FA-48D3-93D6-AD6F2C94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F8858-DF17-40BA-B56B-0239BC3E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3658-F18E-42BF-9B2D-2117D32D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7303-101C-46E6-9247-9EC94E51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600" y="2880"/>
            <a:ext cx="120585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44280" y="2198520"/>
            <a:ext cx="96296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144680" y="6378480"/>
            <a:ext cx="390204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09480" y="6378480"/>
            <a:ext cx="280368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259720" y="6494400"/>
            <a:ext cx="265320" cy="1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38160"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8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marL="38160"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F415-BAB6-44A7-A5A7-D8972239573A}" type="slidenum">
              <a:rPr b="0" lang="fr-BE" sz="8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600" y="2880"/>
            <a:ext cx="120585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44280" y="2198520"/>
            <a:ext cx="96296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4144680" y="6378480"/>
            <a:ext cx="390204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609480" y="6378480"/>
            <a:ext cx="280368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1259720" y="6494400"/>
            <a:ext cx="265320" cy="1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8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0767-885C-4911-8EE5-6E6C3211DC2B}" type="slidenum">
              <a:rPr b="0" lang="fr-BE" sz="8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8C6C-11CF-453F-985B-EAF8B9B2908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53CA-5367-4B5E-BD17-672CFED6905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6600" y="2880"/>
            <a:ext cx="120585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44280" y="2198520"/>
            <a:ext cx="96296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480" y="6378480"/>
            <a:ext cx="280368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44680" y="6378480"/>
            <a:ext cx="390204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11259720" y="6494400"/>
            <a:ext cx="265320" cy="1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38160"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8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marL="38160"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FC25-E800-4994-A0B0-511814EF0897}" type="slidenum">
              <a:rPr b="0" lang="fr-BE" sz="8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6600" y="2880"/>
            <a:ext cx="120585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44280" y="2198520"/>
            <a:ext cx="9629640" cy="22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480" y="6378480"/>
            <a:ext cx="280368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44680" y="6378480"/>
            <a:ext cx="390204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11259720" y="6494400"/>
            <a:ext cx="265320" cy="1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8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ts val="924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1DCE-2FCE-426E-B943-CF3844279CA9}" type="slidenum">
              <a:rPr b="0" lang="fr-BE" sz="8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ec.europa.eu/regional_policy/sources/cooperate/crossborder/cbc_health/cbc_health_fr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ec.europa.eu/regional_policy/sources/cooperate/crossborder/cbc_health/cbc_health_fr.pd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66360" y="1914480"/>
            <a:ext cx="10744200" cy="3371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0" rIns="0" tIns="19800" bIns="0" anchor="t">
            <a:noAutofit/>
          </a:bodyPr>
          <a:p>
            <a:pPr marL="1577880" indent="0"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LA COOPERATION SANITAIRE 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          TRANSFRONTALIÈRE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7" name="object 3"/>
          <p:cNvSpPr/>
          <p:nvPr/>
        </p:nvSpPr>
        <p:spPr>
          <a:xfrm>
            <a:off x="685800" y="4943520"/>
            <a:ext cx="10744200" cy="145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88888"/>
                </a:solidFill>
                <a:latin typeface="Calibri"/>
                <a:ea typeface="Calibri"/>
              </a:rPr>
              <a:t>Henri Lewalle 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88888"/>
                </a:solidFill>
                <a:latin typeface="Calibri"/>
                <a:ea typeface="Calibri"/>
              </a:rPr>
              <a:t>METZ 28 AVRIL 20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https://ec.europa.eu/regional_policy/sources/cooperate/crossborder/cbc_health/cbc_health_fr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Image 4" descr=""/>
          <p:cNvPicPr/>
          <p:nvPr/>
        </p:nvPicPr>
        <p:blipFill>
          <a:blip r:embed="rId2"/>
          <a:stretch/>
        </p:blipFill>
        <p:spPr>
          <a:xfrm>
            <a:off x="3803760" y="0"/>
            <a:ext cx="44956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ACTION : RENFORCEMENT COOPERATION PED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ESPACE FRONTALIER PROV LUX BE – NORD MEURTHE &amp; MOS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opération transfrontalière sous la forme ZOAST entre CSL Arlon et Mont-Saint-Mar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vention Mont-Saint-Martin et CHEM GDL radiothérap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vention CSL Arlon et COLPACH en matière de réadaptation (COVI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Objectif : renforcement de la coopération entre les différentes structures de soins de ce territoire transfrontalier en développant la coopération sanitaire et interhospitalière sur le versant luxembourgeo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A244-F845-4AC6-9E60-389662CEA49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Calibri Light"/>
              </a:rPr>
              <a:t>AKTION: VERSTÄRKUNG DER ZUSAMMENARBEIT IM EUROPÄISCHEN ENTWICKLUNGSPOL (PED)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RENZRAUM PROV LUX BE – NORD MEURTHE &amp; MOSEL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renzüberschreitende Zusammenarbeit in Form von ZOAST zwischen CSL Arlon und Mont-Saint-Mar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ereinbarung Strahlentherapie zwischen Mont-Saint-Martin und CH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Vereinbarung Rehabilitation (COVID) zwischen CSL Arlon und COLP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Ziel: Verstärkung der Zusammenarbeit zwischen den verschiedenen Gesundheitseinrichtungen dieses Grenzgebietes durch einen Ausbau der Kooperation im Gesundheitswesen und zwischen den Krankenhäusern im luxemburgischen Teilgebi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8B36-A081-409F-869A-ECA15E6FC12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07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  </a:t>
            </a: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Projet de coopération socio-sanitaire dans l’espace frontalier </a:t>
            </a: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                  belgo-franco-luxembourgeoi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37720" y="2003400"/>
            <a:ext cx="2832120" cy="9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44546a"/>
                </a:solidFill>
                <a:latin typeface="Calibri"/>
              </a:rPr>
              <a:t>Situation géograph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Image 3" descr=""/>
          <p:cNvPicPr/>
          <p:nvPr/>
        </p:nvPicPr>
        <p:blipFill>
          <a:blip r:embed="rId1"/>
          <a:stretch/>
        </p:blipFill>
        <p:spPr>
          <a:xfrm>
            <a:off x="4915080" y="1717560"/>
            <a:ext cx="6765840" cy="4946760"/>
          </a:xfrm>
          <a:prstGeom prst="rect">
            <a:avLst/>
          </a:prstGeom>
          <a:ln w="0">
            <a:noFill/>
          </a:ln>
        </p:spPr>
      </p:pic>
      <p:sp>
        <p:nvSpPr>
          <p:cNvPr id="294" name="ZoneTexte 4"/>
          <p:cNvSpPr/>
          <p:nvPr/>
        </p:nvSpPr>
        <p:spPr>
          <a:xfrm>
            <a:off x="838080" y="3665520"/>
            <a:ext cx="4249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ur le versant luxembourgeois : les cantons d’Esch-sur-Alzette, Capellen et Red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ur le versant français : les cantons de Mont-Saint-Martin, Longwy et Villeru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ur le versant belge : les arrondissements administratifs d’Arlon et Vir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E5EF-0BCF-46DC-9543-0AB2D3E14C6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07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000000"/>
                </a:solidFill>
                <a:latin typeface="Calibri Light"/>
              </a:rPr>
              <a:t>Kooperationsprojekt im Sozial- und Gesundheitsbereich im Grenzgebiet zwischen Belgien, Frankreich und Luxemburg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37720" y="2003400"/>
            <a:ext cx="2832120" cy="9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44546a"/>
                </a:solidFill>
                <a:latin typeface="Calibri"/>
              </a:rPr>
              <a:t>Geographische L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Image 3" descr=""/>
          <p:cNvPicPr/>
          <p:nvPr/>
        </p:nvPicPr>
        <p:blipFill>
          <a:blip r:embed="rId1"/>
          <a:stretch/>
        </p:blipFill>
        <p:spPr>
          <a:xfrm>
            <a:off x="4915080" y="1717560"/>
            <a:ext cx="6765840" cy="4946760"/>
          </a:xfrm>
          <a:prstGeom prst="rect">
            <a:avLst/>
          </a:prstGeom>
          <a:ln w="0">
            <a:noFill/>
          </a:ln>
        </p:spPr>
      </p:pic>
      <p:sp>
        <p:nvSpPr>
          <p:cNvPr id="299" name="ZoneTexte 4"/>
          <p:cNvSpPr/>
          <p:nvPr/>
        </p:nvSpPr>
        <p:spPr>
          <a:xfrm>
            <a:off x="838080" y="3665520"/>
            <a:ext cx="4249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m luxemburgischen Teilgebiet: Kanton Esch-sur-Alzette, Capellen und Red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m französischen Teilgebiet: Kanton Mont-Saint-Martin, Longwy und Villeru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Im belgischen Teilgebiet: Verwaltungsbezirke Arlon und Virt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55CE-8EDA-4016-8652-88594D78ABB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754200" y="950400"/>
            <a:ext cx="716256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44546a"/>
                </a:solidFill>
                <a:latin typeface="Calibri"/>
              </a:rPr>
              <a:t> </a:t>
            </a:r>
            <a:r>
              <a:rPr b="1" i="1" lang="fr-BE" sz="3200" spc="-1" strike="noStrike">
                <a:solidFill>
                  <a:srgbClr val="44546a"/>
                </a:solidFill>
                <a:latin typeface="Calibri"/>
              </a:rPr>
              <a:t>L’offre de so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Volume et densité de médecins généralis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Hôpitaux de court séjo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4547-6B70-4ED6-87F8-40A50A94C08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92120" y="4462560"/>
          <a:ext cx="5316480" cy="1971720"/>
        </p:xfrm>
        <a:graphic>
          <a:graphicData uri="http://schemas.openxmlformats.org/drawingml/2006/table">
            <a:tbl>
              <a:tblPr/>
              <a:tblGrid>
                <a:gridCol w="2328840"/>
                <a:gridCol w="1093680"/>
                <a:gridCol w="941400"/>
                <a:gridCol w="952560"/>
              </a:tblGrid>
              <a:tr h="74376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i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 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mbre de lits aig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mbre d’habita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ns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pel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 0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24624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ch-sur-Alzet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0 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24516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d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 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24624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ntons luxembourge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8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4516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nd-Duché de Luxembou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13 8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8278920" y="2408400"/>
          <a:ext cx="3074760" cy="2054160"/>
        </p:xfrm>
        <a:graphic>
          <a:graphicData uri="http://schemas.openxmlformats.org/drawingml/2006/table">
            <a:tbl>
              <a:tblPr/>
              <a:tblGrid>
                <a:gridCol w="1593720"/>
                <a:gridCol w="657360"/>
                <a:gridCol w="823680"/>
              </a:tblGrid>
              <a:tr h="50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 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la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ns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ngw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</a:tr>
              <a:tr h="32868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t-Saint-Mart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</a:tr>
              <a:tr h="3063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lleru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</a:tr>
              <a:tr h="3063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ntons frança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</a:tr>
              <a:tr h="3063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nd 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 4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6456240" y="4908600"/>
          <a:ext cx="3645000" cy="1611360"/>
        </p:xfrm>
        <a:graphic>
          <a:graphicData uri="http://schemas.openxmlformats.org/drawingml/2006/table">
            <a:tbl>
              <a:tblPr/>
              <a:tblGrid>
                <a:gridCol w="2133720"/>
                <a:gridCol w="674640"/>
                <a:gridCol w="836640"/>
              </a:tblGrid>
              <a:tr h="4903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 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la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ns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l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2793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r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28080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rondissements bel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811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allo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 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754200" y="950400"/>
            <a:ext cx="716256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44546a"/>
                </a:solidFill>
                <a:latin typeface="Calibri"/>
              </a:rPr>
              <a:t> </a:t>
            </a:r>
            <a:r>
              <a:rPr b="1" i="1" lang="de-DE" sz="3200" spc="-1" strike="noStrike">
                <a:solidFill>
                  <a:srgbClr val="44546a"/>
                </a:solidFill>
                <a:latin typeface="Calibri"/>
              </a:rPr>
              <a:t>Versorgungsangeb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Volumen und Dichte bei Allgemeinärz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Kurzzeitpflege-Krankenhäus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9246-EC34-44D4-A06A-15735817966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492120" y="4462560"/>
          <a:ext cx="5316480" cy="1971720"/>
        </p:xfrm>
        <a:graphic>
          <a:graphicData uri="http://schemas.openxmlformats.org/drawingml/2006/table">
            <a:tbl>
              <a:tblPr/>
              <a:tblGrid>
                <a:gridCol w="2328840"/>
                <a:gridCol w="1093680"/>
                <a:gridCol w="941400"/>
                <a:gridCol w="952560"/>
              </a:tblGrid>
              <a:tr h="743760"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kutbet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inwoh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ch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apel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 0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24516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ch-sur-Alzet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0 2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24624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d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 0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599"/>
                    </a:solidFill>
                  </a:tcPr>
                </a:tc>
              </a:tr>
              <a:tr h="24516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xemburgische Kan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8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45520">
                <a:tc>
                  <a:txBody>
                    <a:bodyPr lIns="44640" rIns="4464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ßherzogtum Luxembur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0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13 8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8278920" y="2408400"/>
          <a:ext cx="3074760" cy="2238120"/>
        </p:xfrm>
        <a:graphic>
          <a:graphicData uri="http://schemas.openxmlformats.org/drawingml/2006/table">
            <a:tbl>
              <a:tblPr/>
              <a:tblGrid>
                <a:gridCol w="1593720"/>
                <a:gridCol w="657360"/>
                <a:gridCol w="823680"/>
              </a:tblGrid>
              <a:tr h="5094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lät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ch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ngw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</a:tr>
              <a:tr h="32868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nt-Saint-Mart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</a:tr>
              <a:tr h="3063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lleru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caac"/>
                    </a:solidFill>
                  </a:tcPr>
                </a:tc>
              </a:tr>
              <a:tr h="49032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ranzösische Kan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</a:tr>
              <a:tr h="3063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and 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 4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7d3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6456240" y="4908600"/>
          <a:ext cx="3645000" cy="1611360"/>
        </p:xfrm>
        <a:graphic>
          <a:graphicData uri="http://schemas.openxmlformats.org/drawingml/2006/table">
            <a:tbl>
              <a:tblPr/>
              <a:tblGrid>
                <a:gridCol w="2133720"/>
                <a:gridCol w="674640"/>
                <a:gridCol w="836640"/>
              </a:tblGrid>
              <a:tr h="4903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lät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ch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l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2793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ir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6ee"/>
                    </a:solidFill>
                  </a:tcPr>
                </a:tc>
              </a:tr>
              <a:tr h="28080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lgische Bezirk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281160">
                <a:tc>
                  <a:txBody>
                    <a:bodyPr lIns="44280" rIns="44280" tIns="0" bIns="0" anchor="b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alloni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 8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B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b9b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1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Les établissements formant l’offre hospitalière du projet de   coopération sanitaire belgo-franco-luxembourgeoi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ZoneTexte 4"/>
          <p:cNvSpPr/>
          <p:nvPr/>
        </p:nvSpPr>
        <p:spPr>
          <a:xfrm>
            <a:off x="450720" y="2158920"/>
            <a:ext cx="5073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Centre Hospitalier Emile Mayrisch (CH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Hôpital de Mont-Saint-Martin Groupe SOS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CSL Vivalia Ar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Centre de Réhabilitation du Château de Colp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Espace réservé du contenu 2" descr=""/>
          <p:cNvPicPr/>
          <p:nvPr/>
        </p:nvPicPr>
        <p:blipFill>
          <a:blip r:embed="rId1"/>
          <a:stretch/>
        </p:blipFill>
        <p:spPr>
          <a:xfrm>
            <a:off x="6095880" y="1773360"/>
            <a:ext cx="5502240" cy="4692600"/>
          </a:xfrm>
          <a:prstGeom prst="rect">
            <a:avLst/>
          </a:prstGeom>
          <a:ln w="0">
            <a:noFill/>
          </a:ln>
        </p:spPr>
      </p:pic>
      <p:sp>
        <p:nvSpPr>
          <p:cNvPr id="314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D7A9-5124-4D83-8A59-35A5DCEA5B1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11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 Light"/>
              </a:rPr>
              <a:t>Folgende Einrichtungen bilden das Krankenhausangebot des belgisch-französisch-luxemburgischen Kooperationsprojekts im Gesundheitswesen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ZoneTexte 4"/>
          <p:cNvSpPr/>
          <p:nvPr/>
        </p:nvSpPr>
        <p:spPr>
          <a:xfrm>
            <a:off x="450720" y="2158920"/>
            <a:ext cx="5073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Centre Hospitalier Emile Mayrisch (CH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Hôpital de Mont-Saint-Martin Groupe SOS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CSL Vivalia Arl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libri"/>
              </a:rPr>
              <a:t>Centre de Réhabilitation du Château de Colp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Espace réservé du contenu 2" descr=""/>
          <p:cNvPicPr/>
          <p:nvPr/>
        </p:nvPicPr>
        <p:blipFill>
          <a:blip r:embed="rId1"/>
          <a:stretch/>
        </p:blipFill>
        <p:spPr>
          <a:xfrm>
            <a:off x="6095880" y="1773360"/>
            <a:ext cx="5502240" cy="4692600"/>
          </a:xfrm>
          <a:prstGeom prst="rect">
            <a:avLst/>
          </a:prstGeom>
          <a:ln w="0">
            <a:noFill/>
          </a:ln>
        </p:spPr>
      </p:pic>
      <p:sp>
        <p:nvSpPr>
          <p:cNvPr id="318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F4FA-72F1-4C38-99BE-B71E79544DD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07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fr-BE" sz="3200" spc="-1" strike="noStrike">
                <a:solidFill>
                  <a:srgbClr val="000000"/>
                </a:solidFill>
                <a:latin typeface="Calibri Light"/>
              </a:rPr>
              <a:t>Les axes de développement du projet de coopération sanitaire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38080" y="1533600"/>
            <a:ext cx="10515600" cy="5116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OLLABORATION INTERHOSPITALIE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ZOAST LUXLOR et AMU TRANSFRONTALIE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COLLABORATION ENTRE ARLON ET MONT-SAINT-MARTIN depuis 1/7/200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Calibri"/>
              </a:rPr>
              <a:t>IRM, urologie, gastroentérologie, pédiatrie, réadaptation cardio-vasculaire, dialyse,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ONVENTION RADIOTHERAPIE ESCH-M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CONVENTION COVID « LONG » ARLON-COLPA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’ACCES AU CAISSON HYPERBARE DU CHEM (service national d’oxygénothérapie GD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MOBILITE DES PROFESSIONNELS DE SA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ciliter la mobilité et l’exercice de la pratique médicale dans les différents  établissements (ex praticiens d’Arlon à MS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MOBILITE DES PATI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ispositif ZOAST : accès aux soins transfrontaliers dans les établissements repris à la convention sans obstacle juridique, administratif ni financier (application des règlements 883/2004 et 987/2009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84AD-51BB-48DC-BBCE-F348D39D8C0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07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alibri Light"/>
              </a:rPr>
              <a:t>Schwerpunkte des Ausbaus des Kooperationsprojekts im Gesundheitswesen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8080" y="1533600"/>
            <a:ext cx="10515600" cy="5116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ZUSAMMENARBEIT ZWISCHEN DEN KRANKENHÄUSER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ZOAST LUXLOR und GRENZÜBERSCHREITENDE RETTUNGSDIENS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Zusammenarbeit zwischen ARLON und MONT-SAINT-MARTIN seit dem 1.7.2008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Calibri"/>
              </a:rPr>
              <a:t>MRT, Urologie, Gastroenterologie, Pädiatrie, kardiovaskuläre Rehabilitation, Dialyse,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VEREINBARUNG „STRAHLENTHERAPIE“ ESCH-MS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VEREINBARUNG „LONG-COVID“ ARLON-COLPA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ZUGANG ZUR DEKOMPRESSIONSKAMMER DES CHEM (nationale Einrichtung für Sauerstofftherapie des Großherzogtums Luxembur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MOBILITÄT DER FACHKRÄFTE DES GESUNDHEITSWES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Förderung der Mobilität und Ausübung der Gesundheitsberufe in den verschiedenen Einrichtungen (z.B. Einsatz von Heilpraktikern aus Arlon in MS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Calibri"/>
              </a:rPr>
              <a:t>PATIENTENMOBILITÄ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</a:rPr>
              <a:t>ZOAST-System: Zugang zur grenzüberschreitenden Gesundheitsversorgung in den in der Vereinbarung aufgeführten Einrichtungen, ohne rechtliche, administrative und finanzielle Hürden (Umsetzung der Verordnungen 883/2004 und 987/2009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61C2-24FF-4EC9-ABF9-C6B5A0EB607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66360" y="1914480"/>
            <a:ext cx="10744200" cy="2728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0" rIns="0" tIns="19800" bIns="0" anchor="t">
            <a:noAutofit/>
          </a:bodyPr>
          <a:p>
            <a:pPr marL="353880" indent="0" algn="ctr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  <a:ea typeface="Calibri"/>
              </a:rPr>
              <a:t>DIE GRENZÜBERSCHREITENDE ZUSAMMENARBEIT IM GESUNDHEITSWESEN</a:t>
            </a:r>
            <a:br>
              <a:rPr sz="4400"/>
            </a:b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object 3"/>
          <p:cNvSpPr/>
          <p:nvPr/>
        </p:nvSpPr>
        <p:spPr>
          <a:xfrm>
            <a:off x="685800" y="4943520"/>
            <a:ext cx="10744200" cy="145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1680" bIns="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88888"/>
                </a:solidFill>
                <a:latin typeface="Calibri"/>
                <a:ea typeface="Calibri"/>
              </a:rPr>
              <a:t>Henri Lewalle (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88888"/>
                </a:solidFill>
                <a:latin typeface="Calibri"/>
                <a:ea typeface="Calibri"/>
              </a:rPr>
              <a:t>METZ, 28. APRIL 20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https://ec.europa.eu/regional_policy/sources/cooperate/crossborder/cbc_health/cbc_health_fr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Image 4" descr=""/>
          <p:cNvPicPr/>
          <p:nvPr/>
        </p:nvPicPr>
        <p:blipFill>
          <a:blip r:embed="rId2"/>
          <a:stretch/>
        </p:blipFill>
        <p:spPr>
          <a:xfrm>
            <a:off x="3803760" y="0"/>
            <a:ext cx="44956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38080" y="641520"/>
            <a:ext cx="10515600" cy="5535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SPOSITIF ZOAST SUR LE TERRITOIRE TRINATIONAL DEFI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ême dispositif que la ZOAST LUX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tension au territoire luxembourgeois des cantons de Capellen, Redange et Es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tension de l’offre de soins aux établissements du CHEM et de COLP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PPORTUNI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TERRITOIRE HISTORIQUE DU 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ACCORDS-CADRES DE COOPERATION SANITA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CONTEXTE DE LA PANDEM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PRESIDENCE FRANCAISE DE l’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A300-9A52-44E9-AD92-B7119462BF6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838080" y="641520"/>
            <a:ext cx="10515600" cy="5535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ZOAST-SYSTEM IM FESTGELEGTEN TRINATIONALEN GEBI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Gleiches System wie ZOAST LUXL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usweitung auf die luxemburgischen Kantone Capellen, Redange und Es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Ausweitung des Versorgungsangebots auf die Krankenhäuser CHEM und COLP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GÜNSTIGE GELEGENHEI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HISTORISCHES GEBIET DES EUROPÄISCHEN ENTWICKLUNGSP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RAHMENABKOMMEN ÜBER DIE ZUSAMMENARBEIT IM GESUNDHEITSWE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PANDEMIEBEDINGTER K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FRANZÖSISCHE EU-RATSPRÄSIDENTSCHA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E330-D513-4E8C-9A4C-8BBFA72C74B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object 2"/>
          <p:cNvSpPr/>
          <p:nvPr/>
        </p:nvSpPr>
        <p:spPr>
          <a:xfrm>
            <a:off x="4657680" y="766800"/>
            <a:ext cx="6696000" cy="5557680"/>
          </a:xfrm>
          <a:custGeom>
            <a:avLst/>
            <a:gdLst/>
            <a:ahLst/>
            <a:rect l="l" t="t" r="r" b="b"/>
            <a:pathLst>
              <a:path w="5862320" h="5476240">
                <a:moveTo>
                  <a:pt x="0" y="5476240"/>
                </a:moveTo>
                <a:lnTo>
                  <a:pt x="5862320" y="5476240"/>
                </a:lnTo>
                <a:lnTo>
                  <a:pt x="5862320" y="0"/>
                </a:lnTo>
                <a:lnTo>
                  <a:pt x="0" y="0"/>
                </a:lnTo>
                <a:lnTo>
                  <a:pt x="0" y="547624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object 3" descr=""/>
          <p:cNvPicPr/>
          <p:nvPr/>
        </p:nvPicPr>
        <p:blipFill>
          <a:blip r:embed="rId1"/>
          <a:stretch/>
        </p:blipFill>
        <p:spPr>
          <a:xfrm>
            <a:off x="4627440" y="785880"/>
            <a:ext cx="6669360" cy="5072040"/>
          </a:xfrm>
          <a:prstGeom prst="rect">
            <a:avLst/>
          </a:prstGeom>
          <a:ln w="0">
            <a:noFill/>
          </a:ln>
        </p:spPr>
      </p:pic>
      <p:pic>
        <p:nvPicPr>
          <p:cNvPr id="254" name="object 4" descr=""/>
          <p:cNvPicPr/>
          <p:nvPr/>
        </p:nvPicPr>
        <p:blipFill>
          <a:blip r:embed="rId2"/>
          <a:stretch/>
        </p:blipFill>
        <p:spPr>
          <a:xfrm>
            <a:off x="457200" y="766800"/>
            <a:ext cx="411012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object 2"/>
          <p:cNvSpPr/>
          <p:nvPr/>
        </p:nvSpPr>
        <p:spPr>
          <a:xfrm>
            <a:off x="4657680" y="766800"/>
            <a:ext cx="6696000" cy="5557680"/>
          </a:xfrm>
          <a:custGeom>
            <a:avLst/>
            <a:gdLst>
              <a:gd name="textAreaLeft" fmla="*/ 0 w 6696000"/>
              <a:gd name="textAreaRight" fmla="*/ 6696360 w 6696000"/>
              <a:gd name="textAreaTop" fmla="*/ 0 h 5557680"/>
              <a:gd name="textAreaBottom" fmla="*/ 5557680 h 5557680"/>
            </a:gdLst>
            <a:ahLst/>
            <a:rect l="textAreaLeft" t="textAreaTop" r="textAreaRight" b="textAreaBottom"/>
            <a:pathLst>
              <a:path w="5862320" h="5476240">
                <a:moveTo>
                  <a:pt x="0" y="5476240"/>
                </a:moveTo>
                <a:lnTo>
                  <a:pt x="5862320" y="5476240"/>
                </a:lnTo>
                <a:lnTo>
                  <a:pt x="5862320" y="0"/>
                </a:lnTo>
                <a:lnTo>
                  <a:pt x="0" y="0"/>
                </a:lnTo>
                <a:lnTo>
                  <a:pt x="0" y="547624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object 3" descr=""/>
          <p:cNvPicPr/>
          <p:nvPr/>
        </p:nvPicPr>
        <p:blipFill>
          <a:blip r:embed="rId1"/>
          <a:stretch/>
        </p:blipFill>
        <p:spPr>
          <a:xfrm>
            <a:off x="4627440" y="785880"/>
            <a:ext cx="6583320" cy="5084640"/>
          </a:xfrm>
          <a:prstGeom prst="rect">
            <a:avLst/>
          </a:prstGeom>
          <a:ln w="0">
            <a:noFill/>
          </a:ln>
        </p:spPr>
      </p:pic>
      <p:pic>
        <p:nvPicPr>
          <p:cNvPr id="257" name="object 4" descr=""/>
          <p:cNvPicPr/>
          <p:nvPr/>
        </p:nvPicPr>
        <p:blipFill>
          <a:blip r:embed="rId2"/>
          <a:stretch/>
        </p:blipFill>
        <p:spPr>
          <a:xfrm>
            <a:off x="457200" y="766800"/>
            <a:ext cx="411012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object 2" descr=""/>
          <p:cNvPicPr/>
          <p:nvPr/>
        </p:nvPicPr>
        <p:blipFill>
          <a:blip r:embed="rId1"/>
          <a:stretch/>
        </p:blipFill>
        <p:spPr>
          <a:xfrm>
            <a:off x="914400" y="1311120"/>
            <a:ext cx="9982080" cy="4754880"/>
          </a:xfrm>
          <a:prstGeom prst="rect">
            <a:avLst/>
          </a:prstGeom>
          <a:ln w="0">
            <a:noFill/>
          </a:ln>
        </p:spPr>
      </p:pic>
      <p:sp>
        <p:nvSpPr>
          <p:cNvPr id="259" name="object 3"/>
          <p:cNvSpPr/>
          <p:nvPr/>
        </p:nvSpPr>
        <p:spPr>
          <a:xfrm>
            <a:off x="3008160" y="1776240"/>
            <a:ext cx="2127240" cy="4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  <a:ea typeface="Calibri"/>
              </a:rPr>
              <a:t>Renforcer la coopération  et les échang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object 4"/>
          <p:cNvSpPr/>
          <p:nvPr/>
        </p:nvSpPr>
        <p:spPr>
          <a:xfrm>
            <a:off x="2978280" y="2725560"/>
            <a:ext cx="238896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2600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Améliorer le processus législati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object 5"/>
          <p:cNvSpPr/>
          <p:nvPr/>
        </p:nvSpPr>
        <p:spPr>
          <a:xfrm>
            <a:off x="3008160" y="3575160"/>
            <a:ext cx="243072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2600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Soutenir l'emploi transfrontali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object 6"/>
          <p:cNvSpPr/>
          <p:nvPr/>
        </p:nvSpPr>
        <p:spPr>
          <a:xfrm>
            <a:off x="3054240" y="4417920"/>
            <a:ext cx="2246400" cy="4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spAutoFit/>
          </a:bodyPr>
          <a:p>
            <a:pPr marL="12600">
              <a:lnSpc>
                <a:spcPts val="1672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Promouvoir le multilinguisme  transfrontali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object 7"/>
          <p:cNvSpPr/>
          <p:nvPr/>
        </p:nvSpPr>
        <p:spPr>
          <a:xfrm>
            <a:off x="2978280" y="5257800"/>
            <a:ext cx="2849400" cy="2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2600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aciliter l'accessibilité transfrontaliè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object 8"/>
          <p:cNvSpPr/>
          <p:nvPr/>
        </p:nvSpPr>
        <p:spPr>
          <a:xfrm>
            <a:off x="7310520" y="1811160"/>
            <a:ext cx="2530440" cy="4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spAutoFit/>
          </a:bodyPr>
          <a:p>
            <a:pPr marL="12600">
              <a:lnSpc>
                <a:spcPts val="1672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Promouvoir une administration  publique transfrontalière en lig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object 9"/>
          <p:cNvSpPr/>
          <p:nvPr/>
        </p:nvSpPr>
        <p:spPr>
          <a:xfrm>
            <a:off x="7310520" y="2616120"/>
            <a:ext cx="2609640" cy="4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spAutoFit/>
          </a:bodyPr>
          <a:p>
            <a:pPr marL="12600">
              <a:lnSpc>
                <a:spcPts val="1672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Fournir informations et conseils de  qualit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object 10"/>
          <p:cNvSpPr/>
          <p:nvPr/>
        </p:nvSpPr>
        <p:spPr>
          <a:xfrm>
            <a:off x="7316640" y="3367080"/>
            <a:ext cx="3149640" cy="2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480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ENCOURAGER LA MISE EN COMMU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object 11"/>
          <p:cNvSpPr/>
          <p:nvPr/>
        </p:nvSpPr>
        <p:spPr>
          <a:xfrm>
            <a:off x="7316640" y="3610080"/>
            <a:ext cx="2988000" cy="2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480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DES ÉTABLISSEMENTS DE SOINS 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object 12"/>
          <p:cNvSpPr/>
          <p:nvPr/>
        </p:nvSpPr>
        <p:spPr>
          <a:xfrm>
            <a:off x="7316640" y="3854520"/>
            <a:ext cx="561960" cy="23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480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S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object 13"/>
          <p:cNvSpPr/>
          <p:nvPr/>
        </p:nvSpPr>
        <p:spPr>
          <a:xfrm>
            <a:off x="7331040" y="4237200"/>
            <a:ext cx="259416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spAutoFit/>
          </a:bodyPr>
          <a:p>
            <a:pPr marL="12600">
              <a:lnSpc>
                <a:spcPts val="1672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Tenir compte du cadre juridique et  financier pour la coopération  transfrontaliè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object 14"/>
          <p:cNvSpPr/>
          <p:nvPr/>
        </p:nvSpPr>
        <p:spPr>
          <a:xfrm>
            <a:off x="7332840" y="5121360"/>
            <a:ext cx="275580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t">
            <a:spAutoFit/>
          </a:bodyPr>
          <a:p>
            <a:pPr marL="12600">
              <a:lnSpc>
                <a:spcPts val="1672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Calibri"/>
                <a:ea typeface="Calibri"/>
              </a:rPr>
              <a:t>Démontrer l’interaction  transfrontalière pour éclairer la prise  de décis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001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       </a:t>
            </a:r>
            <a:r>
              <a:rPr b="1" lang="fr-FR" sz="4400" spc="-1" strike="noStrike" u="sng">
                <a:solidFill>
                  <a:srgbClr val="ff0000"/>
                </a:solidFill>
                <a:uFillTx/>
                <a:latin typeface="Calibri Light"/>
              </a:rPr>
              <a:t> </a:t>
            </a:r>
            <a:r>
              <a:rPr b="1" lang="fr-FR" sz="4400" spc="-1" strike="noStrike" u="sng">
                <a:solidFill>
                  <a:srgbClr val="ff0000"/>
                </a:solidFill>
                <a:uFillTx/>
                <a:latin typeface="Calibri Light"/>
              </a:rPr>
              <a:t>LE PROJET INTERREG V GR COSA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38080" y="1485720"/>
            <a:ext cx="10515600" cy="523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CRÉER UN OBSERVATOIRE DE LA SANTÉ GRANDREGIO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DÉVELOPPER LES COOPÉRATIONS TRANSFRONTALIÈ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ACCORDS-CADRES = TRAITÉS SANITAIRES ENTRE LES ÉTA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ÉFINIR DES TERRITOIRES DE SANTE TRANSFRONTALIERS (type ZOAST) DANS LES ESPACES FRONTALIERS DE LA GRANDE REG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DÉVELOPPER UNE GESTION INFORMATISÉE DES FLUX FINANCIERS POUR LES SOINS TRANSFRONTA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AIDE MÉDICALE URGENTE : GÉNÉRALISER LA PRISE EN CHARGE TRANSFRONTALIÈRE (Type MSM-ARL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RENFORCER LA COOPÉRATION MSM-ARLON-COLPACH-CHEM (PED santé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alibri"/>
              </a:rPr>
              <a:t>INSTAURER UNE MOBILITÉ AISÉE DES PROFESSIONNELS DE SANTÉ DANS LES ZOAST ET DÉVELOPPER L’ÉCHANGE DE BONNES PRATIQU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)</a:t>
            </a:r>
            <a:fld id="{F420724B-77E7-461A-A942-C15B4BC27D4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1001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ff0000"/>
                </a:solidFill>
                <a:uFillTx/>
                <a:latin typeface="Calibri Light"/>
              </a:rPr>
              <a:t>PROJEKT INTERREG V GR COSA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38080" y="1485720"/>
            <a:ext cx="10515600" cy="523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EINRICHTUNG EINER BEOBACHTUNGSSTELLE FÜR DAS GROSSREGIONALE GESUNDHEITSWE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AUSBAU DER GRENZÜBERSCHREITENDEN KOOPERATIO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Calibri"/>
              </a:rPr>
              <a:t>RAHMENABKOMMEN = ZWISCHENSTAATLICHE ABKOMMEN IM GESUNDHEITSBEREIC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Calibri"/>
              </a:rPr>
              <a:t>DEFINITION GRENZÜBERSCHREITENDER GESUNDHEITSGEBIETE (NACH DEM VORBILD DER ZOAST) IN DEN GRENZGEBIETEN DER GROSSREG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Calibri"/>
              </a:rPr>
              <a:t>ENTWICKLUNG EINES IT-SYSTEMS ZUR FINANZIELLEN ABWICKLUNG DER GRENZÜBERSCHREITENDEN GESUNDHEITSVERSORGUNG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MEDIZINISCHE NOTVERSORGUNG: VERALLGEMEINERUNG DER GRENZÜBERSCHREITENDEN VERSORGUNG (NACH DEM VORBILD MSM-ARL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AUSBAU DER KOOPERATION MSM-ARLON-COLPACH-CHEM (PED GESUNDHEI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Calibri"/>
              </a:rPr>
              <a:t>VEREINFACHUNG DER MOBILITÄT DER FACHKRÄFTE DES GESUNDHEITSWESENS IN DEN ZOAST UND FÖRDERUNG DES AUSTAUSCHS VON BEST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898989"/>
                </a:solidFill>
                <a:latin typeface="Calibri"/>
              </a:rPr>
              <a:t>)</a:t>
            </a:r>
            <a:fld id="{A0AEC7DE-9670-4568-BBF2-65CC22C8E12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523880" y="2674440"/>
            <a:ext cx="9144000" cy="262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6000" spc="-1" strike="noStrike">
                <a:solidFill>
                  <a:srgbClr val="000000"/>
                </a:solidFill>
                <a:latin typeface="Calibri Light"/>
              </a:rPr>
              <a:t>Projet transfrontalier de coopération sanitaire transfrontalière « LUXLOR II »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523880" y="5694120"/>
            <a:ext cx="9144000" cy="63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METZ 28 AVRIL 20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Image 4" descr=""/>
          <p:cNvPicPr/>
          <p:nvPr/>
        </p:nvPicPr>
        <p:blipFill>
          <a:blip r:embed="rId1"/>
          <a:stretch/>
        </p:blipFill>
        <p:spPr>
          <a:xfrm>
            <a:off x="3848040" y="177840"/>
            <a:ext cx="4496040" cy="2041560"/>
          </a:xfrm>
          <a:prstGeom prst="rect">
            <a:avLst/>
          </a:prstGeom>
          <a:ln w="0">
            <a:noFill/>
          </a:ln>
        </p:spPr>
      </p:pic>
      <p:sp>
        <p:nvSpPr>
          <p:cNvPr id="280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4D87-601B-4DA5-87A5-F7C9BDC9D63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3880" y="2674440"/>
            <a:ext cx="9144000" cy="2629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800" spc="-1" strike="noStrike">
                <a:solidFill>
                  <a:srgbClr val="000000"/>
                </a:solidFill>
                <a:latin typeface="Calibri Light"/>
              </a:rPr>
              <a:t>Grenzüberschreitendes Projekt Grenzüberschreitende Zusammenarbeit im Gesundheitswesen</a:t>
            </a:r>
            <a:br>
              <a:rPr sz="3800"/>
            </a:br>
            <a:r>
              <a:rPr b="1" lang="de-DE" sz="3800" spc="-1" strike="noStrike">
                <a:solidFill>
                  <a:srgbClr val="000000"/>
                </a:solidFill>
                <a:latin typeface="Calibri Light"/>
              </a:rPr>
              <a:t>„LUXLOR II“</a:t>
            </a:r>
            <a:endParaRPr b="0" lang="en-US" sz="3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523880" y="5694120"/>
            <a:ext cx="9144000" cy="63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Calibri"/>
              </a:rPr>
              <a:t>METZ, 28. APRIL 202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Image 4" descr=""/>
          <p:cNvPicPr/>
          <p:nvPr/>
        </p:nvPicPr>
        <p:blipFill>
          <a:blip r:embed="rId1"/>
          <a:stretch/>
        </p:blipFill>
        <p:spPr>
          <a:xfrm>
            <a:off x="3848040" y="177840"/>
            <a:ext cx="4496040" cy="2041560"/>
          </a:xfrm>
          <a:prstGeom prst="rect">
            <a:avLst/>
          </a:prstGeom>
          <a:ln w="0">
            <a:noFill/>
          </a:ln>
        </p:spPr>
      </p:pic>
      <p:sp>
        <p:nvSpPr>
          <p:cNvPr id="284" name="Espace réservé du numéro de diapositive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DD74-199A-42E6-B813-CD14A76634B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6T09:40:07Z</dcterms:created>
  <dc:creator>Henri Lewalle</dc:creator>
  <dc:description/>
  <dc:language>en-US</dc:language>
  <cp:lastModifiedBy>Henri Lewalle</cp:lastModifiedBy>
  <dcterms:modified xsi:type="dcterms:W3CDTF">2022-04-26T09:41:04Z</dcterms:modified>
  <cp:revision>1</cp:revision>
  <dc:subject/>
  <dc:title>            LA COOPERATION SANITAIRE                TRANSFRONTALIÈRE </dc:title>
</cp:coreProperties>
</file>